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983413" cy="99075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62852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9200" y="5319000"/>
            <a:ext cx="62852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69760" y="231804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9200" y="531900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69760" y="531900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20235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74280" y="2318040"/>
            <a:ext cx="20235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99360" y="2318040"/>
            <a:ext cx="20235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9200" y="5319000"/>
            <a:ext cx="20235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74280" y="5319000"/>
            <a:ext cx="20235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99360" y="5319000"/>
            <a:ext cx="20235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9200" y="2318040"/>
            <a:ext cx="62852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62852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3066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69760" y="2318040"/>
            <a:ext cx="3066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9200" y="395280"/>
            <a:ext cx="62852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69760" y="2318040"/>
            <a:ext cx="3066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9200" y="531900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3066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69760" y="231804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69760" y="531900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231804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69760" y="2318040"/>
            <a:ext cx="3066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9200" y="5319000"/>
            <a:ext cx="62852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9200" y="395280"/>
            <a:ext cx="62852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0" y="2318040"/>
            <a:ext cx="62852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85080" cy="990612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2978280" y="560520"/>
            <a:ext cx="3311280" cy="36716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4880" y="1386360"/>
            <a:ext cx="2166480" cy="73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strumentaçã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auta doce sopr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auta doce contr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auta doce te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auta transversa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lauta transversa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larinete Bb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larinete Bb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axofone alto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axofone alt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ompete Bb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ompete Bb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omb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cussã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cussã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cussã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Ba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lockenspiel e Vibraf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Xilofone Sopr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Xilofone Contr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Xilofone Bai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olin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olin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olonce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ntrabai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Partes adiciona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iolã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bo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g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517560" y="920880"/>
            <a:ext cx="21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l Meloc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fa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44760" y="444816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úsica: Glauber Santi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8624880"/>
            <a:ext cx="69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rquestra Experimental da UF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25560" y="344520"/>
            <a:ext cx="1619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2:50:28Z</dcterms:created>
  <dc:creator>Pessoal</dc:creator>
  <dc:description/>
  <dc:language>en-US</dc:language>
  <cp:lastModifiedBy>Pessoal</cp:lastModifiedBy>
  <dcterms:modified xsi:type="dcterms:W3CDTF">2008-04-07T23:24:48Z</dcterms:modified>
  <cp:revision>7</cp:revision>
  <dc:subject/>
  <dc:title>Slide 1</dc:title>
</cp:coreProperties>
</file>